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13.png" ContentType="image/png"/>
  <Override PartName="/ppt/media/image9.gif" ContentType="image/gif"/>
  <Override PartName="/ppt/media/explode.wav" ContentType="audio/x-wav"/>
  <Override PartName="/ppt/media/image8.png" ContentType="image/png"/>
  <Override PartName="/ppt/media/image7.gif" ContentType="image/gif"/>
  <Override PartName="/ppt/media/image6.gif" ContentType="image/gif"/>
  <Override PartName="/ppt/media/image17.png" ContentType="image/png"/>
  <Override PartName="/ppt/media/drumroll.wav" ContentType="audio/x-wav"/>
  <Override PartName="/ppt/media/image15.png" ContentType="image/png"/>
  <Override PartName="/ppt/media/image14.png" ContentType="image/png"/>
  <Override PartName="/ppt/media/image12.png" ContentType="image/png"/>
  <Override PartName="/ppt/media/image1.png" ContentType="image/png"/>
  <Override PartName="/ppt/media/image2.png" ContentType="image/png"/>
  <Override PartName="/ppt/media/image16.png" ContentType="image/png"/>
  <Override PartName="/ppt/media/wind.wav" ContentType="audio/x-wav"/>
  <Override PartName="/ppt/media/image11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4BCF-A664-4707-8D9E-386D17D62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6A2E-5DF5-400B-9CD3-C7E232481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43B7-F501-4B43-B03D-2D93CAE8B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370B-F0F1-43D8-B61B-5CEE38145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83BA-3969-48D4-9B1E-A9FCBCB48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3D9A-339E-42BE-8080-7BBAF625A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518D-0AB0-4451-8171-324FC2E73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E68B-603E-4A7F-8727-028C31981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57B2-F0CA-4712-A7A6-B5C05EF8E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7879-6FE2-4A2A-BF2D-82A33707F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7D35-1652-431C-AF14-B678152CD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346D-AD39-4E33-A3D9-9A105CFD8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35B5E-A71B-42F3-9D2A-1A57A0A4D5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breeze.wav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audio" Target="../media/wind.wav"/><Relationship Id="rId7" Type="http://schemas.openxmlformats.org/officeDocument/2006/relationships/audio" Target="../media/wind.wav"/><Relationship Id="rId8" Type="http://schemas.openxmlformats.org/officeDocument/2006/relationships/audio" Target="../media/explode.wav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8.png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" Target=""/><Relationship Id="rId4" Type="http://schemas.openxmlformats.org/officeDocument/2006/relationships/image" Target="../media/image4.png"/><Relationship Id="rId5" Type="http://schemas.openxmlformats.org/officeDocument/2006/relationships/slide" Target=""/><Relationship Id="rId6" Type="http://schemas.openxmlformats.org/officeDocument/2006/relationships/image" Target="../media/image3.png"/><Relationship Id="rId7" Type="http://schemas.openxmlformats.org/officeDocument/2006/relationships/slide" Target=""/><Relationship Id="rId8" Type="http://schemas.openxmlformats.org/officeDocument/2006/relationships/image" Target="../media/image4.png"/><Relationship Id="rId9" Type="http://schemas.openxmlformats.org/officeDocument/2006/relationships/slide" Target=""/><Relationship Id="rId10" Type="http://schemas.openxmlformats.org/officeDocument/2006/relationships/image" Target="../media/image5.png"/><Relationship Id="rId11" Type="http://schemas.openxmlformats.org/officeDocument/2006/relationships/slide" Target="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8.png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" Target=""/><Relationship Id="rId4" Type="http://schemas.openxmlformats.org/officeDocument/2006/relationships/image" Target="../media/image4.png"/><Relationship Id="rId5" Type="http://schemas.openxmlformats.org/officeDocument/2006/relationships/slide" Target=""/><Relationship Id="rId6" Type="http://schemas.openxmlformats.org/officeDocument/2006/relationships/image" Target="../media/image3.png"/><Relationship Id="rId7" Type="http://schemas.openxmlformats.org/officeDocument/2006/relationships/slide" Target=""/><Relationship Id="rId8" Type="http://schemas.openxmlformats.org/officeDocument/2006/relationships/image" Target="../media/image4.png"/><Relationship Id="rId9" Type="http://schemas.openxmlformats.org/officeDocument/2006/relationships/slide" Target=""/><Relationship Id="rId10" Type="http://schemas.openxmlformats.org/officeDocument/2006/relationships/image" Target="../media/image5.png"/><Relationship Id="rId11" Type="http://schemas.openxmlformats.org/officeDocument/2006/relationships/slide" Target="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8.png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" Target=""/><Relationship Id="rId4" Type="http://schemas.openxmlformats.org/officeDocument/2006/relationships/image" Target="../media/image4.png"/><Relationship Id="rId5" Type="http://schemas.openxmlformats.org/officeDocument/2006/relationships/slide" Target=""/><Relationship Id="rId6" Type="http://schemas.openxmlformats.org/officeDocument/2006/relationships/image" Target="../media/image3.png"/><Relationship Id="rId7" Type="http://schemas.openxmlformats.org/officeDocument/2006/relationships/hyperlink" Target="file:///usr/lib/libreoffice/share/gallery/sounds/laser.wav" TargetMode="External"/><Relationship Id="rId8" Type="http://schemas.openxmlformats.org/officeDocument/2006/relationships/image" Target="../media/image4.png"/><Relationship Id="rId9" Type="http://schemas.openxmlformats.org/officeDocument/2006/relationships/hyperlink" Target="file:///usr/lib/libreoffice/share/gallery/sounds/laser.wav" TargetMode="External"/><Relationship Id="rId10" Type="http://schemas.openxmlformats.org/officeDocument/2006/relationships/image" Target="../media/image5.png"/><Relationship Id="rId11" Type="http://schemas.openxmlformats.org/officeDocument/2006/relationships/hyperlink" Target="file:///usr/lib/libreoffice/share/gallery/sounds/applause.wav" TargetMode="External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voltage.wav" TargetMode="External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hoosh.wav" TargetMode="External"/><Relationship Id="rId2" Type="http://schemas.openxmlformats.org/officeDocument/2006/relationships/image" Target="../media/image8.png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" Target=""/><Relationship Id="rId4" Type="http://schemas.openxmlformats.org/officeDocument/2006/relationships/image" Target="../media/image4.png"/><Relationship Id="rId5" Type="http://schemas.openxmlformats.org/officeDocument/2006/relationships/slide" Target=""/><Relationship Id="rId6" Type="http://schemas.openxmlformats.org/officeDocument/2006/relationships/image" Target="../media/image3.png"/><Relationship Id="rId7" Type="http://schemas.openxmlformats.org/officeDocument/2006/relationships/slide" Target=""/><Relationship Id="rId8" Type="http://schemas.openxmlformats.org/officeDocument/2006/relationships/image" Target="../media/image4.png"/><Relationship Id="rId9" Type="http://schemas.openxmlformats.org/officeDocument/2006/relationships/slide" Target=""/><Relationship Id="rId10" Type="http://schemas.openxmlformats.org/officeDocument/2006/relationships/image" Target="../media/image5.png"/><Relationship Id="rId11" Type="http://schemas.openxmlformats.org/officeDocument/2006/relationships/slide" Target="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ind.wav" TargetMode="Externa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8.png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" Target=""/><Relationship Id="rId4" Type="http://schemas.openxmlformats.org/officeDocument/2006/relationships/image" Target="../media/image4.png"/><Relationship Id="rId5" Type="http://schemas.openxmlformats.org/officeDocument/2006/relationships/slide" Target=""/><Relationship Id="rId6" Type="http://schemas.openxmlformats.org/officeDocument/2006/relationships/image" Target="../media/image3.png"/><Relationship Id="rId7" Type="http://schemas.openxmlformats.org/officeDocument/2006/relationships/slide" Target=""/><Relationship Id="rId8" Type="http://schemas.openxmlformats.org/officeDocument/2006/relationships/image" Target="../media/image4.png"/><Relationship Id="rId9" Type="http://schemas.openxmlformats.org/officeDocument/2006/relationships/slide" Target=""/><Relationship Id="rId10" Type="http://schemas.openxmlformats.org/officeDocument/2006/relationships/image" Target="../media/image5.png"/><Relationship Id="rId11" Type="http://schemas.openxmlformats.org/officeDocument/2006/relationships/slide" Target="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8.png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" Target=""/><Relationship Id="rId4" Type="http://schemas.openxmlformats.org/officeDocument/2006/relationships/image" Target="../media/image4.png"/><Relationship Id="rId5" Type="http://schemas.openxmlformats.org/officeDocument/2006/relationships/slide" Target=""/><Relationship Id="rId6" Type="http://schemas.openxmlformats.org/officeDocument/2006/relationships/image" Target="../media/image3.png"/><Relationship Id="rId7" Type="http://schemas.openxmlformats.org/officeDocument/2006/relationships/slide" Target=""/><Relationship Id="rId8" Type="http://schemas.openxmlformats.org/officeDocument/2006/relationships/image" Target="../media/image4.png"/><Relationship Id="rId9" Type="http://schemas.openxmlformats.org/officeDocument/2006/relationships/slide" Target=""/><Relationship Id="rId10" Type="http://schemas.openxmlformats.org/officeDocument/2006/relationships/image" Target="../media/image5.png"/><Relationship Id="rId11" Type="http://schemas.openxmlformats.org/officeDocument/2006/relationships/slide" Target="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ed Rectangle 4"/>
          <p:cNvSpPr/>
          <p:nvPr/>
        </p:nvSpPr>
        <p:spPr>
          <a:xfrm>
            <a:off x="609480" y="457200"/>
            <a:ext cx="7925040" cy="4191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val 5">
            <a:hlinkClick r:id="rId1"/>
          </p:cNvPr>
          <p:cNvSpPr/>
          <p:nvPr/>
        </p:nvSpPr>
        <p:spPr>
          <a:xfrm>
            <a:off x="838080" y="4876920"/>
            <a:ext cx="1371600" cy="137160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val 6"/>
          <p:cNvSpPr/>
          <p:nvPr/>
        </p:nvSpPr>
        <p:spPr>
          <a:xfrm>
            <a:off x="3657600" y="4876920"/>
            <a:ext cx="1371600" cy="137160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6553080" y="4876920"/>
            <a:ext cx="1371600" cy="137160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simplemachines.gif"/>
          <p:cNvPicPr/>
          <p:nvPr/>
        </p:nvPicPr>
        <p:blipFill>
          <a:blip r:embed="rId2"/>
          <a:stretch/>
        </p:blipFill>
        <p:spPr>
          <a:xfrm>
            <a:off x="1627200" y="685800"/>
            <a:ext cx="5992920" cy="3581280"/>
          </a:xfrm>
          <a:prstGeom prst="rect">
            <a:avLst/>
          </a:prstGeom>
          <a:ln w="0">
            <a:noFill/>
          </a:ln>
        </p:spPr>
      </p:pic>
      <p:pic>
        <p:nvPicPr>
          <p:cNvPr id="46" name="New Stories (Highway Blues).wma" descr=""/>
          <p:cNvPicPr/>
          <p:nvPr/>
        </p:nvPicPr>
        <p:blipFill>
          <a:blip r:embed="rId3"/>
          <a:stretch/>
        </p:blipFill>
        <p:spPr>
          <a:xfrm>
            <a:off x="8458200" y="5410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14">
            <a:hlinkClick r:id="rId4" action="ppaction://hlinksldjump"/>
          </p:cNvPr>
          <p:cNvSpPr/>
          <p:nvPr/>
        </p:nvSpPr>
        <p:spPr>
          <a:xfrm>
            <a:off x="152280" y="61722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5">
            <a:hlinkClick r:id="rId5" action="ppaction://hlinksldjump"/>
          </p:cNvPr>
          <p:cNvSpPr/>
          <p:nvPr/>
        </p:nvSpPr>
        <p:spPr>
          <a:xfrm>
            <a:off x="845820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93714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Horizontal Scroll 1"/>
          <p:cNvSpPr/>
          <p:nvPr/>
        </p:nvSpPr>
        <p:spPr>
          <a:xfrm>
            <a:off x="609480" y="609480"/>
            <a:ext cx="7772400" cy="22100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Correc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Right Arrow 3"/>
          <p:cNvGrpSpPr/>
          <p:nvPr/>
        </p:nvGrpSpPr>
        <p:grpSpPr>
          <a:xfrm>
            <a:off x="6340320" y="4992840"/>
            <a:ext cx="2479680" cy="1633320"/>
            <a:chOff x="6340320" y="4992840"/>
            <a:chExt cx="2479680" cy="1633320"/>
          </a:xfrm>
        </p:grpSpPr>
        <p:pic>
          <p:nvPicPr>
            <p:cNvPr id="134" name="Right Arrow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6340320" y="4992840"/>
              <a:ext cx="2479680" cy="163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6400800" y="5410080"/>
              <a:ext cx="19810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Go to next item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6" name="Picture 4" descr="368_sm.gif"/>
          <p:cNvPicPr/>
          <p:nvPr/>
        </p:nvPicPr>
        <p:blipFill>
          <a:blip r:embed="rId3"/>
          <a:stretch/>
        </p:blipFill>
        <p:spPr>
          <a:xfrm>
            <a:off x="2286000" y="297180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382_lg_clr.gif"/>
          <p:cNvPicPr/>
          <p:nvPr/>
        </p:nvPicPr>
        <p:blipFill>
          <a:blip r:embed="rId4"/>
          <a:stretch/>
        </p:blipFill>
        <p:spPr>
          <a:xfrm>
            <a:off x="4800600" y="30481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5"/>
          <a:stretch/>
        </p:blipFill>
        <p:spPr>
          <a:xfrm>
            <a:off x="3809880" y="4952880"/>
            <a:ext cx="1371600" cy="147492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0880" y="228600"/>
            <a:ext cx="8229600" cy="26668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A round object with a rod through its center, which lifts or moves load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Rounded Rectangle 8"/>
          <p:cNvGrpSpPr/>
          <p:nvPr/>
        </p:nvGrpSpPr>
        <p:grpSpPr>
          <a:xfrm>
            <a:off x="285840" y="3316320"/>
            <a:ext cx="4037040" cy="950760"/>
            <a:chOff x="285840" y="3316320"/>
            <a:chExt cx="4037040" cy="950760"/>
          </a:xfrm>
        </p:grpSpPr>
        <p:pic>
          <p:nvPicPr>
            <p:cNvPr id="141" name="Rounded Rectangle 8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285840" y="3316320"/>
              <a:ext cx="403704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498600" y="3394080"/>
              <a:ext cx="3727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: Leve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Rounded Rectangle 6"/>
          <p:cNvGrpSpPr/>
          <p:nvPr/>
        </p:nvGrpSpPr>
        <p:grpSpPr>
          <a:xfrm>
            <a:off x="4632480" y="3316320"/>
            <a:ext cx="4035240" cy="950760"/>
            <a:chOff x="4632480" y="3316320"/>
            <a:chExt cx="4035240" cy="950760"/>
          </a:xfrm>
        </p:grpSpPr>
        <p:pic>
          <p:nvPicPr>
            <p:cNvPr id="144" name="Rounded Rectangl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4632480" y="3316320"/>
              <a:ext cx="403524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4842000" y="3394080"/>
              <a:ext cx="3727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: Pulle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Rounded Rectangle 12"/>
          <p:cNvGrpSpPr/>
          <p:nvPr/>
        </p:nvGrpSpPr>
        <p:grpSpPr>
          <a:xfrm>
            <a:off x="285840" y="4383000"/>
            <a:ext cx="4037040" cy="951120"/>
            <a:chOff x="285840" y="4383000"/>
            <a:chExt cx="4037040" cy="951120"/>
          </a:xfrm>
        </p:grpSpPr>
        <p:pic>
          <p:nvPicPr>
            <p:cNvPr id="147" name="Rounded Rectangle 12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285840" y="4383000"/>
              <a:ext cx="4037040" cy="95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498600" y="4460760"/>
              <a:ext cx="3727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: Wedg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Rounded Rectangle 13"/>
          <p:cNvGrpSpPr/>
          <p:nvPr/>
        </p:nvGrpSpPr>
        <p:grpSpPr>
          <a:xfrm>
            <a:off x="4632480" y="4383000"/>
            <a:ext cx="4035240" cy="951120"/>
            <a:chOff x="4632480" y="4383000"/>
            <a:chExt cx="4035240" cy="951120"/>
          </a:xfrm>
        </p:grpSpPr>
        <p:pic>
          <p:nvPicPr>
            <p:cNvPr id="150" name="Rounded Rectangle 13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4632480" y="4383000"/>
              <a:ext cx="4035240" cy="95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4842000" y="4460760"/>
              <a:ext cx="3727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: Wheel and ax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Rounded Rectangle 14"/>
          <p:cNvGrpSpPr/>
          <p:nvPr/>
        </p:nvGrpSpPr>
        <p:grpSpPr>
          <a:xfrm>
            <a:off x="285840" y="5529240"/>
            <a:ext cx="4037040" cy="944640"/>
            <a:chOff x="285840" y="5529240"/>
            <a:chExt cx="4037040" cy="944640"/>
          </a:xfrm>
        </p:grpSpPr>
        <p:pic>
          <p:nvPicPr>
            <p:cNvPr id="153" name="Rounded Rectangle 14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285840" y="5529240"/>
              <a:ext cx="4037040" cy="9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498600" y="5603760"/>
              <a:ext cx="3727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: Inclined pla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Rounded Rectangle 15"/>
          <p:cNvGrpSpPr/>
          <p:nvPr/>
        </p:nvGrpSpPr>
        <p:grpSpPr>
          <a:xfrm>
            <a:off x="4632480" y="5450040"/>
            <a:ext cx="4035240" cy="950760"/>
            <a:chOff x="4632480" y="5450040"/>
            <a:chExt cx="4035240" cy="950760"/>
          </a:xfrm>
        </p:grpSpPr>
        <p:pic>
          <p:nvPicPr>
            <p:cNvPr id="156" name="Rounded Rectangle 15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4632480" y="5450040"/>
              <a:ext cx="403524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4842000" y="5527800"/>
              <a:ext cx="3727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: Screw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Horizontal Scroll 1"/>
          <p:cNvSpPr/>
          <p:nvPr/>
        </p:nvSpPr>
        <p:spPr>
          <a:xfrm>
            <a:off x="609480" y="609480"/>
            <a:ext cx="7772400" cy="22100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correc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arallelogram 3">
            <a:hlinkClick r:id="rId1" action="ppaction://hlinksldjump"/>
          </p:cNvPr>
          <p:cNvSpPr/>
          <p:nvPr/>
        </p:nvSpPr>
        <p:spPr>
          <a:xfrm>
            <a:off x="2286000" y="4876920"/>
            <a:ext cx="4419720" cy="1447560"/>
          </a:xfrm>
          <a:prstGeom prst="parallelogram">
            <a:avLst>
              <a:gd name="adj" fmla="val 25005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ry aga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5" descr="388_sm.gif"/>
          <p:cNvPicPr/>
          <p:nvPr/>
        </p:nvPicPr>
        <p:blipFill>
          <a:blip r:embed="rId2"/>
          <a:stretch/>
        </p:blipFill>
        <p:spPr>
          <a:xfrm>
            <a:off x="2514600" y="28195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381_lg_clr.gif"/>
          <p:cNvPicPr/>
          <p:nvPr/>
        </p:nvPicPr>
        <p:blipFill>
          <a:blip r:embed="rId3"/>
          <a:stretch/>
        </p:blipFill>
        <p:spPr>
          <a:xfrm>
            <a:off x="4952880" y="2895480"/>
            <a:ext cx="1524240" cy="15242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Horizontal Scroll 1"/>
          <p:cNvSpPr/>
          <p:nvPr/>
        </p:nvSpPr>
        <p:spPr>
          <a:xfrm>
            <a:off x="609480" y="609480"/>
            <a:ext cx="7772400" cy="22100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Correc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Right Arrow 3"/>
          <p:cNvGrpSpPr/>
          <p:nvPr/>
        </p:nvGrpSpPr>
        <p:grpSpPr>
          <a:xfrm>
            <a:off x="6340320" y="4992840"/>
            <a:ext cx="2479680" cy="1633320"/>
            <a:chOff x="6340320" y="4992840"/>
            <a:chExt cx="2479680" cy="1633320"/>
          </a:xfrm>
        </p:grpSpPr>
        <p:pic>
          <p:nvPicPr>
            <p:cNvPr id="164" name="Right Arrow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6340320" y="4992840"/>
              <a:ext cx="2479680" cy="163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6400800" y="5410080"/>
              <a:ext cx="19810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Go to next item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6" name="Picture 4" descr="368_sm.gif"/>
          <p:cNvPicPr/>
          <p:nvPr/>
        </p:nvPicPr>
        <p:blipFill>
          <a:blip r:embed="rId3"/>
          <a:stretch/>
        </p:blipFill>
        <p:spPr>
          <a:xfrm>
            <a:off x="2286000" y="297180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382_lg_clr.gif"/>
          <p:cNvPicPr/>
          <p:nvPr/>
        </p:nvPicPr>
        <p:blipFill>
          <a:blip r:embed="rId4"/>
          <a:stretch/>
        </p:blipFill>
        <p:spPr>
          <a:xfrm>
            <a:off x="4800600" y="30481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" descr=""/>
          <p:cNvPicPr/>
          <p:nvPr/>
        </p:nvPicPr>
        <p:blipFill>
          <a:blip r:embed="rId5"/>
          <a:stretch/>
        </p:blipFill>
        <p:spPr>
          <a:xfrm>
            <a:off x="3657600" y="5105520"/>
            <a:ext cx="1722600" cy="151596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0880" y="228600"/>
            <a:ext cx="8229600" cy="26668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A slanting surface connecting a lower level to a higher level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Rounded Rectangle 8"/>
          <p:cNvGrpSpPr/>
          <p:nvPr/>
        </p:nvGrpSpPr>
        <p:grpSpPr>
          <a:xfrm>
            <a:off x="285840" y="3316320"/>
            <a:ext cx="4037040" cy="950760"/>
            <a:chOff x="285840" y="3316320"/>
            <a:chExt cx="4037040" cy="950760"/>
          </a:xfrm>
        </p:grpSpPr>
        <p:pic>
          <p:nvPicPr>
            <p:cNvPr id="171" name="Rounded Rectangle 8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285840" y="3316320"/>
              <a:ext cx="403704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498600" y="3394080"/>
              <a:ext cx="3727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: Leve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Rounded Rectangle 6"/>
          <p:cNvGrpSpPr/>
          <p:nvPr/>
        </p:nvGrpSpPr>
        <p:grpSpPr>
          <a:xfrm>
            <a:off x="4632480" y="3316320"/>
            <a:ext cx="4035240" cy="950760"/>
            <a:chOff x="4632480" y="3316320"/>
            <a:chExt cx="4035240" cy="950760"/>
          </a:xfrm>
        </p:grpSpPr>
        <p:pic>
          <p:nvPicPr>
            <p:cNvPr id="174" name="Rounded Rectangl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4632480" y="3316320"/>
              <a:ext cx="403524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4842000" y="3394080"/>
              <a:ext cx="3727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: Pulle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Rounded Rectangle 12"/>
          <p:cNvGrpSpPr/>
          <p:nvPr/>
        </p:nvGrpSpPr>
        <p:grpSpPr>
          <a:xfrm>
            <a:off x="285840" y="4383000"/>
            <a:ext cx="4037040" cy="951120"/>
            <a:chOff x="285840" y="4383000"/>
            <a:chExt cx="4037040" cy="951120"/>
          </a:xfrm>
        </p:grpSpPr>
        <p:pic>
          <p:nvPicPr>
            <p:cNvPr id="177" name="Rounded Rectangle 12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285840" y="4383000"/>
              <a:ext cx="4037040" cy="95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498600" y="4460760"/>
              <a:ext cx="3727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: Wedg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Rounded Rectangle 13"/>
          <p:cNvGrpSpPr/>
          <p:nvPr/>
        </p:nvGrpSpPr>
        <p:grpSpPr>
          <a:xfrm>
            <a:off x="4632480" y="4383000"/>
            <a:ext cx="4035240" cy="951120"/>
            <a:chOff x="4632480" y="4383000"/>
            <a:chExt cx="4035240" cy="951120"/>
          </a:xfrm>
        </p:grpSpPr>
        <p:pic>
          <p:nvPicPr>
            <p:cNvPr id="180" name="Rounded Rectangle 13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4632480" y="4383000"/>
              <a:ext cx="4035240" cy="95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4842000" y="4460760"/>
              <a:ext cx="3727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: Wheel and ax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Rounded Rectangle 14"/>
          <p:cNvGrpSpPr/>
          <p:nvPr/>
        </p:nvGrpSpPr>
        <p:grpSpPr>
          <a:xfrm>
            <a:off x="285840" y="5529240"/>
            <a:ext cx="4037040" cy="944640"/>
            <a:chOff x="285840" y="5529240"/>
            <a:chExt cx="4037040" cy="944640"/>
          </a:xfrm>
        </p:grpSpPr>
        <p:pic>
          <p:nvPicPr>
            <p:cNvPr id="183" name="Rounded Rectangle 14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285840" y="5529240"/>
              <a:ext cx="4037040" cy="9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498600" y="5603760"/>
              <a:ext cx="3727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: Inclined pla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Rounded Rectangle 15"/>
          <p:cNvGrpSpPr/>
          <p:nvPr/>
        </p:nvGrpSpPr>
        <p:grpSpPr>
          <a:xfrm>
            <a:off x="4632480" y="5450040"/>
            <a:ext cx="4035240" cy="950760"/>
            <a:chOff x="4632480" y="5450040"/>
            <a:chExt cx="4035240" cy="950760"/>
          </a:xfrm>
        </p:grpSpPr>
        <p:pic>
          <p:nvPicPr>
            <p:cNvPr id="186" name="Rounded Rectangle 15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4632480" y="5450040"/>
              <a:ext cx="403524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4842000" y="5527800"/>
              <a:ext cx="3727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: Screw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Horizontal Scroll 1"/>
          <p:cNvSpPr/>
          <p:nvPr/>
        </p:nvSpPr>
        <p:spPr>
          <a:xfrm>
            <a:off x="609480" y="609480"/>
            <a:ext cx="7772400" cy="22100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correc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arallelogram 3">
            <a:hlinkClick r:id="rId1" action="ppaction://hlinksldjump"/>
          </p:cNvPr>
          <p:cNvSpPr/>
          <p:nvPr/>
        </p:nvSpPr>
        <p:spPr>
          <a:xfrm>
            <a:off x="2286000" y="4876920"/>
            <a:ext cx="4419720" cy="1447560"/>
          </a:xfrm>
          <a:prstGeom prst="parallelogram">
            <a:avLst>
              <a:gd name="adj" fmla="val 25005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ry aga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5" descr="388_sm.gif"/>
          <p:cNvPicPr/>
          <p:nvPr/>
        </p:nvPicPr>
        <p:blipFill>
          <a:blip r:embed="rId2"/>
          <a:stretch/>
        </p:blipFill>
        <p:spPr>
          <a:xfrm>
            <a:off x="2514600" y="28195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381_lg_clr.gif"/>
          <p:cNvPicPr/>
          <p:nvPr/>
        </p:nvPicPr>
        <p:blipFill>
          <a:blip r:embed="rId3"/>
          <a:stretch/>
        </p:blipFill>
        <p:spPr>
          <a:xfrm>
            <a:off x="4952880" y="2895480"/>
            <a:ext cx="1524240" cy="15242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Horizontal Scroll 1"/>
          <p:cNvSpPr/>
          <p:nvPr/>
        </p:nvSpPr>
        <p:spPr>
          <a:xfrm>
            <a:off x="609480" y="609480"/>
            <a:ext cx="7772400" cy="22100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Correc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Right Arrow 3"/>
          <p:cNvGrpSpPr/>
          <p:nvPr/>
        </p:nvGrpSpPr>
        <p:grpSpPr>
          <a:xfrm>
            <a:off x="6340320" y="4992840"/>
            <a:ext cx="2479680" cy="1633320"/>
            <a:chOff x="6340320" y="4992840"/>
            <a:chExt cx="2479680" cy="1633320"/>
          </a:xfrm>
        </p:grpSpPr>
        <p:pic>
          <p:nvPicPr>
            <p:cNvPr id="194" name="Right Arrow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6340320" y="4992840"/>
              <a:ext cx="2479680" cy="163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6400800" y="5410080"/>
              <a:ext cx="19810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Go to next item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6" name="Picture 4" descr="368_sm.gif"/>
          <p:cNvPicPr/>
          <p:nvPr/>
        </p:nvPicPr>
        <p:blipFill>
          <a:blip r:embed="rId3"/>
          <a:stretch/>
        </p:blipFill>
        <p:spPr>
          <a:xfrm>
            <a:off x="2286000" y="297180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382_lg_clr.gif"/>
          <p:cNvPicPr/>
          <p:nvPr/>
        </p:nvPicPr>
        <p:blipFill>
          <a:blip r:embed="rId4"/>
          <a:stretch/>
        </p:blipFill>
        <p:spPr>
          <a:xfrm>
            <a:off x="4800600" y="30481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" descr=""/>
          <p:cNvPicPr/>
          <p:nvPr/>
        </p:nvPicPr>
        <p:blipFill>
          <a:blip r:embed="rId5"/>
          <a:stretch/>
        </p:blipFill>
        <p:spPr>
          <a:xfrm>
            <a:off x="3581280" y="5105520"/>
            <a:ext cx="1981440" cy="134136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0880" y="228600"/>
            <a:ext cx="8229600" cy="26668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 A slanting surface wrapped around a pole, which holds things together or lifts material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Rounded Rectangle 8"/>
          <p:cNvGrpSpPr/>
          <p:nvPr/>
        </p:nvGrpSpPr>
        <p:grpSpPr>
          <a:xfrm>
            <a:off x="285840" y="3316320"/>
            <a:ext cx="4037040" cy="950760"/>
            <a:chOff x="285840" y="3316320"/>
            <a:chExt cx="4037040" cy="950760"/>
          </a:xfrm>
        </p:grpSpPr>
        <p:pic>
          <p:nvPicPr>
            <p:cNvPr id="201" name="Rounded Rectangle 8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285840" y="3316320"/>
              <a:ext cx="403704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498600" y="3394080"/>
              <a:ext cx="3727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: Leve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Rounded Rectangle 6"/>
          <p:cNvGrpSpPr/>
          <p:nvPr/>
        </p:nvGrpSpPr>
        <p:grpSpPr>
          <a:xfrm>
            <a:off x="4632480" y="3316320"/>
            <a:ext cx="4035240" cy="950760"/>
            <a:chOff x="4632480" y="3316320"/>
            <a:chExt cx="4035240" cy="950760"/>
          </a:xfrm>
        </p:grpSpPr>
        <p:pic>
          <p:nvPicPr>
            <p:cNvPr id="204" name="Rounded Rectangl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4632480" y="3316320"/>
              <a:ext cx="403524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4842000" y="3394080"/>
              <a:ext cx="3727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: Pulle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Rounded Rectangle 12"/>
          <p:cNvGrpSpPr/>
          <p:nvPr/>
        </p:nvGrpSpPr>
        <p:grpSpPr>
          <a:xfrm>
            <a:off x="285840" y="4383000"/>
            <a:ext cx="4037040" cy="951120"/>
            <a:chOff x="285840" y="4383000"/>
            <a:chExt cx="4037040" cy="951120"/>
          </a:xfrm>
        </p:grpSpPr>
        <p:pic>
          <p:nvPicPr>
            <p:cNvPr id="207" name="Rounded Rectangle 12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285840" y="4383000"/>
              <a:ext cx="4037040" cy="95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498600" y="4460760"/>
              <a:ext cx="3727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: Wedg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Rounded Rectangle 13"/>
          <p:cNvGrpSpPr/>
          <p:nvPr/>
        </p:nvGrpSpPr>
        <p:grpSpPr>
          <a:xfrm>
            <a:off x="4632480" y="4383000"/>
            <a:ext cx="4035240" cy="951120"/>
            <a:chOff x="4632480" y="4383000"/>
            <a:chExt cx="4035240" cy="951120"/>
          </a:xfrm>
        </p:grpSpPr>
        <p:pic>
          <p:nvPicPr>
            <p:cNvPr id="210" name="Rounded Rectangle 13" descr="">
              <a:hlinkClick r:id="rId7"/>
            </p:cNvPr>
            <p:cNvPicPr/>
            <p:nvPr/>
          </p:nvPicPr>
          <p:blipFill>
            <a:blip r:embed="rId8"/>
            <a:stretch/>
          </p:blipFill>
          <p:spPr>
            <a:xfrm>
              <a:off x="4632480" y="4383000"/>
              <a:ext cx="4035240" cy="95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4842000" y="4460760"/>
              <a:ext cx="3727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: Wheel and ax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Rounded Rectangle 14"/>
          <p:cNvGrpSpPr/>
          <p:nvPr/>
        </p:nvGrpSpPr>
        <p:grpSpPr>
          <a:xfrm>
            <a:off x="285840" y="5529240"/>
            <a:ext cx="4037040" cy="944640"/>
            <a:chOff x="285840" y="5529240"/>
            <a:chExt cx="4037040" cy="944640"/>
          </a:xfrm>
        </p:grpSpPr>
        <p:pic>
          <p:nvPicPr>
            <p:cNvPr id="213" name="Rounded Rectangle 14" descr="">
              <a:hlinkClick r:id="rId9"/>
            </p:cNvPr>
            <p:cNvPicPr/>
            <p:nvPr/>
          </p:nvPicPr>
          <p:blipFill>
            <a:blip r:embed="rId10"/>
            <a:stretch/>
          </p:blipFill>
          <p:spPr>
            <a:xfrm>
              <a:off x="285840" y="5529240"/>
              <a:ext cx="4037040" cy="9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498600" y="5603760"/>
              <a:ext cx="3727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: Inclined pla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Rounded Rectangle 15"/>
          <p:cNvGrpSpPr/>
          <p:nvPr/>
        </p:nvGrpSpPr>
        <p:grpSpPr>
          <a:xfrm>
            <a:off x="4632480" y="5450040"/>
            <a:ext cx="4035240" cy="950760"/>
            <a:chOff x="4632480" y="5450040"/>
            <a:chExt cx="4035240" cy="950760"/>
          </a:xfrm>
        </p:grpSpPr>
        <p:pic>
          <p:nvPicPr>
            <p:cNvPr id="216" name="Rounded Rectangle 15" descr="">
              <a:hlinkClick r:id="rId11"/>
            </p:cNvPr>
            <p:cNvPicPr/>
            <p:nvPr/>
          </p:nvPicPr>
          <p:blipFill>
            <a:blip r:embed="rId12"/>
            <a:stretch/>
          </p:blipFill>
          <p:spPr>
            <a:xfrm>
              <a:off x="4632480" y="5450040"/>
              <a:ext cx="403524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4842000" y="5527800"/>
              <a:ext cx="3727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: Screw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Horizontal Scroll 1"/>
          <p:cNvSpPr/>
          <p:nvPr/>
        </p:nvSpPr>
        <p:spPr>
          <a:xfrm>
            <a:off x="609480" y="609480"/>
            <a:ext cx="7772400" cy="22100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correc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arallelogram 3">
            <a:hlinkClick r:id="rId1"/>
          </p:cNvPr>
          <p:cNvSpPr/>
          <p:nvPr/>
        </p:nvSpPr>
        <p:spPr>
          <a:xfrm>
            <a:off x="2286000" y="4876920"/>
            <a:ext cx="4419720" cy="1447560"/>
          </a:xfrm>
          <a:prstGeom prst="parallelogram">
            <a:avLst>
              <a:gd name="adj" fmla="val 25005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ry aga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5" descr="388_sm.gif"/>
          <p:cNvPicPr/>
          <p:nvPr/>
        </p:nvPicPr>
        <p:blipFill>
          <a:blip r:embed="rId2"/>
          <a:stretch/>
        </p:blipFill>
        <p:spPr>
          <a:xfrm>
            <a:off x="2514600" y="28195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381_lg_clr.gif"/>
          <p:cNvPicPr/>
          <p:nvPr/>
        </p:nvPicPr>
        <p:blipFill>
          <a:blip r:embed="rId3"/>
          <a:stretch/>
        </p:blipFill>
        <p:spPr>
          <a:xfrm>
            <a:off x="4952880" y="2895480"/>
            <a:ext cx="1524240" cy="15242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Horizontal Scroll 1"/>
          <p:cNvSpPr/>
          <p:nvPr/>
        </p:nvSpPr>
        <p:spPr>
          <a:xfrm>
            <a:off x="609480" y="609480"/>
            <a:ext cx="7772400" cy="22100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Correc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Right Arrow 3"/>
          <p:cNvGrpSpPr/>
          <p:nvPr/>
        </p:nvGrpSpPr>
        <p:grpSpPr>
          <a:xfrm>
            <a:off x="6340320" y="4992840"/>
            <a:ext cx="2479680" cy="1633320"/>
            <a:chOff x="6340320" y="4992840"/>
            <a:chExt cx="2479680" cy="1633320"/>
          </a:xfrm>
        </p:grpSpPr>
        <p:pic>
          <p:nvPicPr>
            <p:cNvPr id="224" name="Right Arrow 3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6340320" y="4992840"/>
              <a:ext cx="2479680" cy="163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6400800" y="5410080"/>
              <a:ext cx="19810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Go to next item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6" name="Picture 4" descr="368_sm.gif"/>
          <p:cNvPicPr/>
          <p:nvPr/>
        </p:nvPicPr>
        <p:blipFill>
          <a:blip r:embed="rId3"/>
          <a:stretch/>
        </p:blipFill>
        <p:spPr>
          <a:xfrm>
            <a:off x="2286000" y="297180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382_lg_clr.gif"/>
          <p:cNvPicPr/>
          <p:nvPr/>
        </p:nvPicPr>
        <p:blipFill>
          <a:blip r:embed="rId4"/>
          <a:stretch/>
        </p:blipFill>
        <p:spPr>
          <a:xfrm>
            <a:off x="4800600" y="30481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"/>
          <p:cNvPicPr/>
          <p:nvPr/>
        </p:nvPicPr>
        <p:blipFill>
          <a:blip r:embed="rId5"/>
          <a:stretch/>
        </p:blipFill>
        <p:spPr>
          <a:xfrm>
            <a:off x="3886200" y="5105520"/>
            <a:ext cx="1447920" cy="13446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7"/>
          <p:cNvSpPr/>
          <p:nvPr/>
        </p:nvSpPr>
        <p:spPr>
          <a:xfrm>
            <a:off x="380880" y="228600"/>
            <a:ext cx="8229600" cy="26668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A simple machine that uses grooved wheels and a rope to raise, lower, or move a loa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Rounded Rectangle 8"/>
          <p:cNvGrpSpPr/>
          <p:nvPr/>
        </p:nvGrpSpPr>
        <p:grpSpPr>
          <a:xfrm>
            <a:off x="285840" y="3316320"/>
            <a:ext cx="4037040" cy="950760"/>
            <a:chOff x="285840" y="3316320"/>
            <a:chExt cx="4037040" cy="950760"/>
          </a:xfrm>
        </p:grpSpPr>
        <p:pic>
          <p:nvPicPr>
            <p:cNvPr id="51" name="Rounded Rectangle 8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285840" y="3316320"/>
              <a:ext cx="403704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498600" y="3394080"/>
              <a:ext cx="3727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: Leve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Rounded Rectangle 6"/>
          <p:cNvGrpSpPr/>
          <p:nvPr/>
        </p:nvGrpSpPr>
        <p:grpSpPr>
          <a:xfrm>
            <a:off x="4632480" y="3316320"/>
            <a:ext cx="4035240" cy="950760"/>
            <a:chOff x="4632480" y="3316320"/>
            <a:chExt cx="4035240" cy="950760"/>
          </a:xfrm>
        </p:grpSpPr>
        <p:pic>
          <p:nvPicPr>
            <p:cNvPr id="54" name="Rounded Rectangl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4632480" y="3316320"/>
              <a:ext cx="403524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4842000" y="3394080"/>
              <a:ext cx="3727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: Pulle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Rounded Rectangle 12"/>
          <p:cNvGrpSpPr/>
          <p:nvPr/>
        </p:nvGrpSpPr>
        <p:grpSpPr>
          <a:xfrm>
            <a:off x="285840" y="4383000"/>
            <a:ext cx="4037040" cy="951120"/>
            <a:chOff x="285840" y="4383000"/>
            <a:chExt cx="4037040" cy="951120"/>
          </a:xfrm>
        </p:grpSpPr>
        <p:pic>
          <p:nvPicPr>
            <p:cNvPr id="57" name="Rounded Rectangle 12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285840" y="4383000"/>
              <a:ext cx="4037040" cy="95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498600" y="4460760"/>
              <a:ext cx="3727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: Wedg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Rounded Rectangle 13"/>
          <p:cNvGrpSpPr/>
          <p:nvPr/>
        </p:nvGrpSpPr>
        <p:grpSpPr>
          <a:xfrm>
            <a:off x="4632480" y="4383000"/>
            <a:ext cx="4035240" cy="951120"/>
            <a:chOff x="4632480" y="4383000"/>
            <a:chExt cx="4035240" cy="951120"/>
          </a:xfrm>
        </p:grpSpPr>
        <p:pic>
          <p:nvPicPr>
            <p:cNvPr id="60" name="Rounded Rectangle 13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4632480" y="4383000"/>
              <a:ext cx="4035240" cy="95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842000" y="4460760"/>
              <a:ext cx="3727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: Wheel and ax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Rounded Rectangle 14"/>
          <p:cNvGrpSpPr/>
          <p:nvPr/>
        </p:nvGrpSpPr>
        <p:grpSpPr>
          <a:xfrm>
            <a:off x="285840" y="5529240"/>
            <a:ext cx="4037040" cy="944640"/>
            <a:chOff x="285840" y="5529240"/>
            <a:chExt cx="4037040" cy="944640"/>
          </a:xfrm>
        </p:grpSpPr>
        <p:pic>
          <p:nvPicPr>
            <p:cNvPr id="63" name="Rounded Rectangle 14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285840" y="5529240"/>
              <a:ext cx="4037040" cy="9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498600" y="5603760"/>
              <a:ext cx="3727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: Inclined pla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Rounded Rectangle 15"/>
          <p:cNvGrpSpPr/>
          <p:nvPr/>
        </p:nvGrpSpPr>
        <p:grpSpPr>
          <a:xfrm>
            <a:off x="4632480" y="5450040"/>
            <a:ext cx="4035240" cy="950760"/>
            <a:chOff x="4632480" y="5450040"/>
            <a:chExt cx="4035240" cy="950760"/>
          </a:xfrm>
        </p:grpSpPr>
        <p:pic>
          <p:nvPicPr>
            <p:cNvPr id="66" name="Rounded Rectangle 15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4632480" y="5450040"/>
              <a:ext cx="403524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4842000" y="5527800"/>
              <a:ext cx="3727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: Screw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ounded Rectangle 2"/>
          <p:cNvSpPr/>
          <p:nvPr/>
        </p:nvSpPr>
        <p:spPr>
          <a:xfrm>
            <a:off x="533520" y="533520"/>
            <a:ext cx="8229600" cy="5867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 u="sng">
                <a:solidFill>
                  <a:srgbClr val="31859c"/>
                </a:solidFill>
                <a:uFillTx/>
                <a:latin typeface="Times New Roman"/>
                <a:ea typeface="Times New Roman"/>
              </a:rPr>
              <a:t>Instruction</a:t>
            </a:r>
            <a:r>
              <a:rPr b="0" lang="en-US" sz="80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: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Select the type of simple machine described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15">
            <a:hlinkClick r:id="rId1"/>
          </p:cNvPr>
          <p:cNvSpPr/>
          <p:nvPr/>
        </p:nvSpPr>
        <p:spPr>
          <a:xfrm>
            <a:off x="7467480" y="54864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Rectangle 1" descr=""/>
          <p:cNvPicPr/>
          <p:nvPr/>
        </p:nvPicPr>
        <p:blipFill>
          <a:blip r:embed="rId1"/>
          <a:stretch/>
        </p:blipFill>
        <p:spPr>
          <a:xfrm>
            <a:off x="682560" y="347760"/>
            <a:ext cx="7961400" cy="26636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8" descr="simplemachines.gif"/>
          <p:cNvPicPr/>
          <p:nvPr/>
        </p:nvPicPr>
        <p:blipFill>
          <a:blip r:embed="rId2"/>
          <a:stretch/>
        </p:blipFill>
        <p:spPr>
          <a:xfrm>
            <a:off x="1523880" y="2666880"/>
            <a:ext cx="5992920" cy="3581640"/>
          </a:xfrm>
          <a:prstGeom prst="rect">
            <a:avLst/>
          </a:prstGeom>
          <a:ln w="0">
            <a:noFill/>
          </a:ln>
        </p:spPr>
      </p:pic>
      <p:pic>
        <p:nvPicPr>
          <p:cNvPr id="233" name="01 We Rock.wma" descr=""/>
          <p:cNvPicPr/>
          <p:nvPr/>
        </p:nvPicPr>
        <p:blipFill>
          <a:blip r:embed="rId3"/>
          <a:stretch/>
        </p:blipFill>
        <p:spPr>
          <a:xfrm>
            <a:off x="685800" y="5562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animMotion origin="layout" path="M 0 0 C 0.069 0 0.125 0.07467 0.125 0.16667 C 0.125 0.25867 0.069 0.33333 0 0.33333 C -0.069 0.33333 -0.125 0.25867 -0.125 0.16667 C -0.125 0.07467 -0.069 0 0 0 Z">
                                      <p:cBhvr>
                                        <p:cTn id="26" dur="2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92160" fill="hold"/>
                                        <p:tgtEl>
                                          <p:spTgt spid="2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Horizontal Scroll 1"/>
          <p:cNvSpPr/>
          <p:nvPr/>
        </p:nvSpPr>
        <p:spPr>
          <a:xfrm>
            <a:off x="609480" y="609480"/>
            <a:ext cx="7772400" cy="22100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correc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arallelogram 3">
            <a:hlinkClick r:id="rId1" action="ppaction://hlinksldjump"/>
          </p:cNvPr>
          <p:cNvSpPr/>
          <p:nvPr/>
        </p:nvSpPr>
        <p:spPr>
          <a:xfrm>
            <a:off x="2286000" y="4876920"/>
            <a:ext cx="4419720" cy="1447560"/>
          </a:xfrm>
          <a:prstGeom prst="parallelogram">
            <a:avLst>
              <a:gd name="adj" fmla="val 25005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ry aga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388_sm.gif"/>
          <p:cNvPicPr/>
          <p:nvPr/>
        </p:nvPicPr>
        <p:blipFill>
          <a:blip r:embed="rId2"/>
          <a:stretch/>
        </p:blipFill>
        <p:spPr>
          <a:xfrm>
            <a:off x="2514600" y="28195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381_lg_clr.gif"/>
          <p:cNvPicPr/>
          <p:nvPr/>
        </p:nvPicPr>
        <p:blipFill>
          <a:blip r:embed="rId3"/>
          <a:stretch/>
        </p:blipFill>
        <p:spPr>
          <a:xfrm>
            <a:off x="4952880" y="2895480"/>
            <a:ext cx="1524240" cy="15242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Horizontal Scroll 1"/>
          <p:cNvSpPr/>
          <p:nvPr/>
        </p:nvSpPr>
        <p:spPr>
          <a:xfrm>
            <a:off x="609480" y="609480"/>
            <a:ext cx="7772400" cy="22100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Correc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Right Arrow 3"/>
          <p:cNvGrpSpPr/>
          <p:nvPr/>
        </p:nvGrpSpPr>
        <p:grpSpPr>
          <a:xfrm>
            <a:off x="6340320" y="4992840"/>
            <a:ext cx="2479680" cy="1633320"/>
            <a:chOff x="6340320" y="4992840"/>
            <a:chExt cx="2479680" cy="1633320"/>
          </a:xfrm>
        </p:grpSpPr>
        <p:pic>
          <p:nvPicPr>
            <p:cNvPr id="74" name="Right Arrow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6340320" y="4992840"/>
              <a:ext cx="2479680" cy="163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6400800" y="5410080"/>
              <a:ext cx="19810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Go to next item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" name="Picture 4" descr="368_sm.gif"/>
          <p:cNvPicPr/>
          <p:nvPr/>
        </p:nvPicPr>
        <p:blipFill>
          <a:blip r:embed="rId3"/>
          <a:stretch/>
        </p:blipFill>
        <p:spPr>
          <a:xfrm>
            <a:off x="2286000" y="297180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382_lg_clr.gif"/>
          <p:cNvPicPr/>
          <p:nvPr/>
        </p:nvPicPr>
        <p:blipFill>
          <a:blip r:embed="rId4"/>
          <a:stretch/>
        </p:blipFill>
        <p:spPr>
          <a:xfrm>
            <a:off x="4800600" y="30481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3733920" y="4876920"/>
            <a:ext cx="1447560" cy="160308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0880" y="228600"/>
            <a:ext cx="8229600" cy="26668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A stiff bar that rests on a support called fulcrum, which lifts or moves load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Rounded Rectangle 8"/>
          <p:cNvGrpSpPr/>
          <p:nvPr/>
        </p:nvGrpSpPr>
        <p:grpSpPr>
          <a:xfrm>
            <a:off x="285840" y="3316320"/>
            <a:ext cx="4037040" cy="950760"/>
            <a:chOff x="285840" y="3316320"/>
            <a:chExt cx="4037040" cy="950760"/>
          </a:xfrm>
        </p:grpSpPr>
        <p:pic>
          <p:nvPicPr>
            <p:cNvPr id="81" name="Rounded Rectangle 8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285840" y="3316320"/>
              <a:ext cx="403704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498600" y="3394080"/>
              <a:ext cx="3727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: Leve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Rounded Rectangle 6"/>
          <p:cNvGrpSpPr/>
          <p:nvPr/>
        </p:nvGrpSpPr>
        <p:grpSpPr>
          <a:xfrm>
            <a:off x="4632480" y="3316320"/>
            <a:ext cx="4035240" cy="950760"/>
            <a:chOff x="4632480" y="3316320"/>
            <a:chExt cx="4035240" cy="950760"/>
          </a:xfrm>
        </p:grpSpPr>
        <p:pic>
          <p:nvPicPr>
            <p:cNvPr id="84" name="Rounded Rectangl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4632480" y="3316320"/>
              <a:ext cx="403524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4842000" y="3394080"/>
              <a:ext cx="3727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: Pulle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Rounded Rectangle 12"/>
          <p:cNvGrpSpPr/>
          <p:nvPr/>
        </p:nvGrpSpPr>
        <p:grpSpPr>
          <a:xfrm>
            <a:off x="285840" y="4383000"/>
            <a:ext cx="4037040" cy="951120"/>
            <a:chOff x="285840" y="4383000"/>
            <a:chExt cx="4037040" cy="951120"/>
          </a:xfrm>
        </p:grpSpPr>
        <p:pic>
          <p:nvPicPr>
            <p:cNvPr id="87" name="Rounded Rectangle 12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285840" y="4383000"/>
              <a:ext cx="4037040" cy="95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498600" y="4460760"/>
              <a:ext cx="3727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: Wedg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Rounded Rectangle 13"/>
          <p:cNvGrpSpPr/>
          <p:nvPr/>
        </p:nvGrpSpPr>
        <p:grpSpPr>
          <a:xfrm>
            <a:off x="4632480" y="4383000"/>
            <a:ext cx="4035240" cy="951120"/>
            <a:chOff x="4632480" y="4383000"/>
            <a:chExt cx="4035240" cy="951120"/>
          </a:xfrm>
        </p:grpSpPr>
        <p:pic>
          <p:nvPicPr>
            <p:cNvPr id="90" name="Rounded Rectangle 13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4632480" y="4383000"/>
              <a:ext cx="4035240" cy="95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4842000" y="4460760"/>
              <a:ext cx="3727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: Wheel and ax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Rounded Rectangle 14"/>
          <p:cNvGrpSpPr/>
          <p:nvPr/>
        </p:nvGrpSpPr>
        <p:grpSpPr>
          <a:xfrm>
            <a:off x="285840" y="5529240"/>
            <a:ext cx="4037040" cy="944640"/>
            <a:chOff x="285840" y="5529240"/>
            <a:chExt cx="4037040" cy="944640"/>
          </a:xfrm>
        </p:grpSpPr>
        <p:pic>
          <p:nvPicPr>
            <p:cNvPr id="93" name="Rounded Rectangle 14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285840" y="5529240"/>
              <a:ext cx="4037040" cy="9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498600" y="5603760"/>
              <a:ext cx="3727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: Inclined pla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Rounded Rectangle 15"/>
          <p:cNvGrpSpPr/>
          <p:nvPr/>
        </p:nvGrpSpPr>
        <p:grpSpPr>
          <a:xfrm>
            <a:off x="4632480" y="5450040"/>
            <a:ext cx="4035240" cy="950760"/>
            <a:chOff x="4632480" y="5450040"/>
            <a:chExt cx="4035240" cy="950760"/>
          </a:xfrm>
        </p:grpSpPr>
        <p:pic>
          <p:nvPicPr>
            <p:cNvPr id="96" name="Rounded Rectangle 15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4632480" y="5450040"/>
              <a:ext cx="403524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4842000" y="5527800"/>
              <a:ext cx="3727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: Screw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Horizontal Scroll 1"/>
          <p:cNvSpPr/>
          <p:nvPr/>
        </p:nvSpPr>
        <p:spPr>
          <a:xfrm>
            <a:off x="609480" y="609480"/>
            <a:ext cx="7772400" cy="22100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correc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arallelogram 3">
            <a:hlinkClick r:id="rId1" action="ppaction://hlinksldjump"/>
          </p:cNvPr>
          <p:cNvSpPr/>
          <p:nvPr/>
        </p:nvSpPr>
        <p:spPr>
          <a:xfrm>
            <a:off x="2286000" y="4876920"/>
            <a:ext cx="4419720" cy="1447560"/>
          </a:xfrm>
          <a:prstGeom prst="parallelogram">
            <a:avLst>
              <a:gd name="adj" fmla="val 25005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ry aga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388_sm.gif"/>
          <p:cNvPicPr/>
          <p:nvPr/>
        </p:nvPicPr>
        <p:blipFill>
          <a:blip r:embed="rId2"/>
          <a:stretch/>
        </p:blipFill>
        <p:spPr>
          <a:xfrm>
            <a:off x="2514600" y="28195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381_lg_clr.gif"/>
          <p:cNvPicPr/>
          <p:nvPr/>
        </p:nvPicPr>
        <p:blipFill>
          <a:blip r:embed="rId3"/>
          <a:stretch/>
        </p:blipFill>
        <p:spPr>
          <a:xfrm>
            <a:off x="4952880" y="2895480"/>
            <a:ext cx="1524240" cy="15242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Horizontal Scroll 1"/>
          <p:cNvSpPr/>
          <p:nvPr/>
        </p:nvSpPr>
        <p:spPr>
          <a:xfrm>
            <a:off x="609480" y="609480"/>
            <a:ext cx="7772400" cy="22100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Correc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Right Arrow 3"/>
          <p:cNvGrpSpPr/>
          <p:nvPr/>
        </p:nvGrpSpPr>
        <p:grpSpPr>
          <a:xfrm>
            <a:off x="6340320" y="4992840"/>
            <a:ext cx="2479680" cy="1633320"/>
            <a:chOff x="6340320" y="4992840"/>
            <a:chExt cx="2479680" cy="1633320"/>
          </a:xfrm>
        </p:grpSpPr>
        <p:pic>
          <p:nvPicPr>
            <p:cNvPr id="104" name="Right Arrow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6340320" y="4992840"/>
              <a:ext cx="2479680" cy="163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6400800" y="5410080"/>
              <a:ext cx="19810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Go to next item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" name="Picture 4" descr="368_sm.gif"/>
          <p:cNvPicPr/>
          <p:nvPr/>
        </p:nvPicPr>
        <p:blipFill>
          <a:blip r:embed="rId3"/>
          <a:stretch/>
        </p:blipFill>
        <p:spPr>
          <a:xfrm>
            <a:off x="2286000" y="297180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382_lg_clr.gif"/>
          <p:cNvPicPr/>
          <p:nvPr/>
        </p:nvPicPr>
        <p:blipFill>
          <a:blip r:embed="rId4"/>
          <a:stretch/>
        </p:blipFill>
        <p:spPr>
          <a:xfrm>
            <a:off x="4800600" y="30481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"/>
          <p:cNvPicPr/>
          <p:nvPr/>
        </p:nvPicPr>
        <p:blipFill>
          <a:blip r:embed="rId5"/>
          <a:stretch/>
        </p:blipFill>
        <p:spPr>
          <a:xfrm>
            <a:off x="3581280" y="5029200"/>
            <a:ext cx="2005200" cy="135252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0880" y="228600"/>
            <a:ext cx="8229600" cy="26668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An object with at least one slanting side ending in a sharp edge, which cuts materials apar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Rounded Rectangle 8"/>
          <p:cNvGrpSpPr/>
          <p:nvPr/>
        </p:nvGrpSpPr>
        <p:grpSpPr>
          <a:xfrm>
            <a:off x="285840" y="3316320"/>
            <a:ext cx="4037040" cy="950760"/>
            <a:chOff x="285840" y="3316320"/>
            <a:chExt cx="4037040" cy="950760"/>
          </a:xfrm>
        </p:grpSpPr>
        <p:pic>
          <p:nvPicPr>
            <p:cNvPr id="111" name="Rounded Rectangle 8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285840" y="3316320"/>
              <a:ext cx="403704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498600" y="3394080"/>
              <a:ext cx="3727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: Leve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Rounded Rectangle 6"/>
          <p:cNvGrpSpPr/>
          <p:nvPr/>
        </p:nvGrpSpPr>
        <p:grpSpPr>
          <a:xfrm>
            <a:off x="4632480" y="3316320"/>
            <a:ext cx="4035240" cy="950760"/>
            <a:chOff x="4632480" y="3316320"/>
            <a:chExt cx="4035240" cy="950760"/>
          </a:xfrm>
        </p:grpSpPr>
        <p:pic>
          <p:nvPicPr>
            <p:cNvPr id="114" name="Rounded Rectangl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4632480" y="3316320"/>
              <a:ext cx="403524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4842000" y="3394080"/>
              <a:ext cx="3727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: Pulle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Rounded Rectangle 12"/>
          <p:cNvGrpSpPr/>
          <p:nvPr/>
        </p:nvGrpSpPr>
        <p:grpSpPr>
          <a:xfrm>
            <a:off x="285840" y="4383000"/>
            <a:ext cx="4037040" cy="951120"/>
            <a:chOff x="285840" y="4383000"/>
            <a:chExt cx="4037040" cy="951120"/>
          </a:xfrm>
        </p:grpSpPr>
        <p:pic>
          <p:nvPicPr>
            <p:cNvPr id="117" name="Rounded Rectangle 12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285840" y="4383000"/>
              <a:ext cx="4037040" cy="95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498600" y="4460760"/>
              <a:ext cx="3727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: Wedg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Rounded Rectangle 13"/>
          <p:cNvGrpSpPr/>
          <p:nvPr/>
        </p:nvGrpSpPr>
        <p:grpSpPr>
          <a:xfrm>
            <a:off x="4632480" y="4383000"/>
            <a:ext cx="4035240" cy="951120"/>
            <a:chOff x="4632480" y="4383000"/>
            <a:chExt cx="4035240" cy="951120"/>
          </a:xfrm>
        </p:grpSpPr>
        <p:pic>
          <p:nvPicPr>
            <p:cNvPr id="120" name="Rounded Rectangle 13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4632480" y="4383000"/>
              <a:ext cx="4035240" cy="95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4842000" y="4460760"/>
              <a:ext cx="3727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: Wheel and ax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Rounded Rectangle 14"/>
          <p:cNvGrpSpPr/>
          <p:nvPr/>
        </p:nvGrpSpPr>
        <p:grpSpPr>
          <a:xfrm>
            <a:off x="285840" y="5529240"/>
            <a:ext cx="4037040" cy="944640"/>
            <a:chOff x="285840" y="5529240"/>
            <a:chExt cx="4037040" cy="944640"/>
          </a:xfrm>
        </p:grpSpPr>
        <p:pic>
          <p:nvPicPr>
            <p:cNvPr id="123" name="Rounded Rectangle 14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285840" y="5529240"/>
              <a:ext cx="4037040" cy="9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498600" y="5603760"/>
              <a:ext cx="3727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: Inclined pla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Rounded Rectangle 15"/>
          <p:cNvGrpSpPr/>
          <p:nvPr/>
        </p:nvGrpSpPr>
        <p:grpSpPr>
          <a:xfrm>
            <a:off x="4632480" y="5450040"/>
            <a:ext cx="4035240" cy="950760"/>
            <a:chOff x="4632480" y="5450040"/>
            <a:chExt cx="4035240" cy="950760"/>
          </a:xfrm>
        </p:grpSpPr>
        <p:pic>
          <p:nvPicPr>
            <p:cNvPr id="126" name="Rounded Rectangle 15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4632480" y="5450040"/>
              <a:ext cx="403524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4842000" y="5527800"/>
              <a:ext cx="3727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: Screw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Horizontal Scroll 1"/>
          <p:cNvSpPr/>
          <p:nvPr/>
        </p:nvSpPr>
        <p:spPr>
          <a:xfrm>
            <a:off x="609480" y="609480"/>
            <a:ext cx="7772400" cy="22100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correc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arallelogram 3">
            <a:hlinkClick r:id="rId1" action="ppaction://hlinksldjump"/>
          </p:cNvPr>
          <p:cNvSpPr/>
          <p:nvPr/>
        </p:nvSpPr>
        <p:spPr>
          <a:xfrm>
            <a:off x="2286000" y="4876920"/>
            <a:ext cx="4419720" cy="1447560"/>
          </a:xfrm>
          <a:prstGeom prst="parallelogram">
            <a:avLst>
              <a:gd name="adj" fmla="val 25005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ry aga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388_sm.gif"/>
          <p:cNvPicPr/>
          <p:nvPr/>
        </p:nvPicPr>
        <p:blipFill>
          <a:blip r:embed="rId2"/>
          <a:stretch/>
        </p:blipFill>
        <p:spPr>
          <a:xfrm>
            <a:off x="2514600" y="28195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381_lg_clr.gif"/>
          <p:cNvPicPr/>
          <p:nvPr/>
        </p:nvPicPr>
        <p:blipFill>
          <a:blip r:embed="rId3"/>
          <a:stretch/>
        </p:blipFill>
        <p:spPr>
          <a:xfrm>
            <a:off x="4952880" y="2895480"/>
            <a:ext cx="1524240" cy="15242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22:34:42Z</dcterms:created>
  <dc:creator>schu</dc:creator>
  <dc:description/>
  <dc:language>en-US</dc:language>
  <cp:lastModifiedBy>schu</cp:lastModifiedBy>
  <dcterms:modified xsi:type="dcterms:W3CDTF">2009-03-30T15:11:17Z</dcterms:modified>
  <cp:revision>32</cp:revision>
  <dc:subject/>
  <dc:title>Slide 1</dc:title>
</cp:coreProperties>
</file>